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13C3-589D-4D85-9D5F-94BE403DF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1CAB-6E72-4F7C-854D-1056302F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A3E6-4781-48F3-B183-56DBCFBC9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6110-FE5B-4BBF-A626-F440F3EBB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40AA-2514-4AB6-B929-541EAF1A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2C05-9822-4765-83B2-638BF116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317D-0137-45B6-AAA1-175B84E3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8818-DCE8-45E9-8AC5-8F92A82D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E1A0-DA4A-4FDB-A3D6-FDF5C9B6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2E52-E640-4AC1-9ABF-597D8DDF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EEAD-F49C-4886-9A8B-E55A5C1B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C88C-7B88-4993-897B-F2F6D0AD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006F-37D7-4E43-A8B1-E2B5C707B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51080" y="3636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Improvements to OL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ob Walko - RS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771480"/>
            <a:ext cx="8931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Visited with Bill Cotton’s group at Colorado State University (DOE-funded project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Continuing implementation into OLAM of their upgraded microphysics sche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which has improvements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a) Categorization of hydrometeors into distinct cla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b) Physical properties of each hydrometeor 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c) Physical processes experienced by hydromete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d) Representation of how hydrometeor classes interact in colli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e) Microphysical effects of aeros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The CSU code is a bulk microphysics model that approximates hydrometeor dia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spectra with gamma distributions.  However, many auxiliary quantities are pre-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from detailed size-bin calculations and stored during model initialization in order to ga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some of the accuracy of bin microphysics models without any added computational exp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during run-time: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8 prognosed fields (separate hydrometeor categories) in CSU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&gt;100 prognosed fields (many sizes for each category) in bin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The upgraded microphysics will be used in selected case study simulations, inclu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both convective and wintertime precipitating systems.  It will also be used in hurric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simul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2. Studying HYCOM documentation and code in preparation for OLAM-HYCOM coupl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(NSF projec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20:39:37Z</dcterms:created>
  <dc:creator>walko</dc:creator>
  <dc:description/>
  <dc:language>en-US</dc:language>
  <cp:lastModifiedBy>walko</cp:lastModifiedBy>
  <dcterms:modified xsi:type="dcterms:W3CDTF">2009-10-14T17:19:42Z</dcterms:modified>
  <cp:revision>6</cp:revision>
  <dc:subject/>
  <dc:title>Slide 1</dc:title>
</cp:coreProperties>
</file>